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751-3F07-4EFD-9EC0-22027164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DD7-BA81-432D-B72A-2464A8D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F6E-3A3C-4219-B51A-5D80AC4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11C-459A-4F17-BB2E-693DD191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3FE-E819-44FF-95E3-1CCBC79B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530-185C-4922-BBE8-B91FC5F7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4C2-380E-4602-B65D-E450C7F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9DE-C7ED-4656-A77D-5EF62E85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F11-8B9A-43A9-8B87-845523E7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DDE-8DB7-4008-97CA-A920458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E5E-518B-44CD-8D4F-C999467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35D-46C2-4420-BE82-3EF7973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302-6EE9-4B42-BBBB-55F3347DD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71720" y="5857920"/>
            <a:ext cx="6143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By: Matt Be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7" descr=""/>
          <p:cNvPicPr/>
          <p:nvPr/>
        </p:nvPicPr>
        <p:blipFill>
          <a:blip r:embed="rId1"/>
          <a:stretch/>
        </p:blipFill>
        <p:spPr>
          <a:xfrm>
            <a:off x="1438200" y="609480"/>
            <a:ext cx="5913360" cy="1463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1428840" y="2857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ck here to </a:t>
            </a: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star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2143080"/>
            <a:ext cx="83581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hat is the female sex hormone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li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A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Oes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4" descr=""/>
          <p:cNvPicPr/>
          <p:nvPr/>
        </p:nvPicPr>
        <p:blipFill>
          <a:blip r:embed="rId4"/>
          <a:stretch/>
        </p:blipFill>
        <p:spPr>
          <a:xfrm>
            <a:off x="2219400" y="324000"/>
            <a:ext cx="39924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2146320" y="324000"/>
            <a:ext cx="399240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85840" y="18572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hat is the male sex hormone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es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2193840" y="249120"/>
            <a:ext cx="4067280" cy="1109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2960" y="24289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a girl has her menstruation what does this me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5840" y="4500720"/>
            <a:ext cx="8501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2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he female is ready for fertil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2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The female is really s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female has a stomach ul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" descr=""/>
          <p:cNvPicPr/>
          <p:nvPr/>
        </p:nvPicPr>
        <p:blipFill>
          <a:blip r:embed="rId1"/>
          <a:stretch/>
        </p:blipFill>
        <p:spPr>
          <a:xfrm>
            <a:off x="2249640" y="487440"/>
            <a:ext cx="3956040" cy="993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42960" y="2286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uses ac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85840" y="45007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bacteria fills up in the skin foll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you eat to much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you’re ob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1" descr=""/>
          <p:cNvPicPr/>
          <p:nvPr/>
        </p:nvPicPr>
        <p:blipFill>
          <a:blip r:embed="rId1"/>
          <a:stretch/>
        </p:blipFill>
        <p:spPr>
          <a:xfrm>
            <a:off x="2266920" y="487440"/>
            <a:ext cx="4127400" cy="99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25002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puber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14200" y="385776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ime at which a growing boy or girl begins the process of sexual m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you grow pubic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a female develops bre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792000" y="396720"/>
            <a:ext cx="7529760" cy="19386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2736720" y="4906800"/>
            <a:ext cx="337824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1" descr=""/>
          <p:cNvPicPr/>
          <p:nvPr/>
        </p:nvPicPr>
        <p:blipFill>
          <a:blip r:embed="rId1"/>
          <a:stretch/>
        </p:blipFill>
        <p:spPr>
          <a:xfrm>
            <a:off x="2146320" y="396720"/>
            <a:ext cx="4559400" cy="19386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1968480" y="4498920"/>
            <a:ext cx="4767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30:50Z</dcterms:created>
  <dc:creator>user</dc:creator>
  <dc:description/>
  <dc:language>en-US</dc:language>
  <cp:lastModifiedBy>user</cp:lastModifiedBy>
  <dcterms:modified xsi:type="dcterms:W3CDTF">2009-10-04T22:39:59Z</dcterms:modified>
  <cp:revision>6</cp:revision>
  <dc:subject/>
  <dc:title>Slide 1</dc:title>
</cp:coreProperties>
</file>